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4226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1280" y="2076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422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1280" y="422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2440" y="2076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34520" y="2076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422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2440" y="422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34520" y="422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1280" y="2076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28880" y="39960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1280" y="2076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422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76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1280" y="422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1280" y="2076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4226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90720" y="4226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1280" y="2076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720" y="422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1280" y="422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2440" y="2076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4520" y="2076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90720" y="422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2440" y="422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4520" y="422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76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28880" y="39960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2076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22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2076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1280" y="422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2076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226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440" y="152280"/>
            <a:ext cx="1524600" cy="1525320"/>
            <a:chOff x="514440" y="152280"/>
            <a:chExt cx="1524600" cy="1525320"/>
          </a:xfrm>
        </p:grpSpPr>
        <p:sp>
          <p:nvSpPr>
            <p:cNvPr id="1" name=""/>
            <p:cNvSpPr/>
            <p:nvPr/>
          </p:nvSpPr>
          <p:spPr>
            <a:xfrm>
              <a:off x="666360" y="304560"/>
              <a:ext cx="1220400" cy="1220760"/>
            </a:xfrm>
            <a:custGeom>
              <a:avLst/>
              <a:gdLst/>
              <a:ahLst/>
              <a:rect l="l" t="t" r="r" b="b"/>
              <a:pathLst>
                <a:path w="577" h="1025">
                  <a:moveTo>
                    <a:pt x="288" y="0"/>
                  </a:moveTo>
                  <a:lnTo>
                    <a:pt x="0" y="512"/>
                  </a:lnTo>
                  <a:lnTo>
                    <a:pt x="288" y="1024"/>
                  </a:lnTo>
                  <a:lnTo>
                    <a:pt x="576" y="512"/>
                  </a:lnTo>
                  <a:lnTo>
                    <a:pt x="288" y="0"/>
                  </a:lnTo>
                </a:path>
              </a:pathLst>
            </a:custGeom>
            <a:solidFill>
              <a:srgbClr val="4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514440" y="152280"/>
              <a:ext cx="1524600" cy="1525320"/>
              <a:chOff x="514440" y="152280"/>
              <a:chExt cx="1524600" cy="1525320"/>
            </a:xfrm>
          </p:grpSpPr>
          <p:sp>
            <p:nvSpPr>
              <p:cNvPr id="3" name=""/>
              <p:cNvSpPr/>
              <p:nvPr/>
            </p:nvSpPr>
            <p:spPr>
              <a:xfrm>
                <a:off x="1275480" y="15228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0" y="128"/>
                    </a:moveTo>
                    <a:lnTo>
                      <a:pt x="0" y="0"/>
                    </a:lnTo>
                    <a:lnTo>
                      <a:pt x="360" y="640"/>
                    </a:lnTo>
                    <a:lnTo>
                      <a:pt x="288" y="64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440" y="152280"/>
                <a:ext cx="762840" cy="76356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360" y="0"/>
                    </a:moveTo>
                    <a:lnTo>
                      <a:pt x="360" y="128"/>
                    </a:lnTo>
                    <a:lnTo>
                      <a:pt x="72" y="640"/>
                    </a:lnTo>
                    <a:lnTo>
                      <a:pt x="0" y="640"/>
                    </a:lnTo>
                    <a:lnTo>
                      <a:pt x="360" y="0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75480" y="914400"/>
                <a:ext cx="763560" cy="76320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288" y="0"/>
                    </a:moveTo>
                    <a:lnTo>
                      <a:pt x="360" y="0"/>
                    </a:lnTo>
                    <a:lnTo>
                      <a:pt x="0" y="640"/>
                    </a:lnTo>
                    <a:lnTo>
                      <a:pt x="0" y="512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14440" y="914400"/>
                <a:ext cx="762840" cy="76320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72" y="0"/>
                    </a:moveTo>
                    <a:lnTo>
                      <a:pt x="360" y="512"/>
                    </a:lnTo>
                    <a:lnTo>
                      <a:pt x="360" y="640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Click to edit the title text format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c000c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09760" y="515880"/>
            <a:ext cx="6062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4416-30AE-4649-9017-CEF94FB3D759}" type="slidenum"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514440" y="152280"/>
            <a:ext cx="1524600" cy="1525320"/>
            <a:chOff x="514440" y="152280"/>
            <a:chExt cx="1524600" cy="1525320"/>
          </a:xfrm>
        </p:grpSpPr>
        <p:sp>
          <p:nvSpPr>
            <p:cNvPr id="47" name=""/>
            <p:cNvSpPr/>
            <p:nvPr/>
          </p:nvSpPr>
          <p:spPr>
            <a:xfrm>
              <a:off x="666360" y="304560"/>
              <a:ext cx="1220400" cy="1220760"/>
            </a:xfrm>
            <a:custGeom>
              <a:avLst/>
              <a:gdLst/>
              <a:ahLst/>
              <a:rect l="l" t="t" r="r" b="b"/>
              <a:pathLst>
                <a:path w="577" h="1025">
                  <a:moveTo>
                    <a:pt x="288" y="0"/>
                  </a:moveTo>
                  <a:lnTo>
                    <a:pt x="0" y="512"/>
                  </a:lnTo>
                  <a:lnTo>
                    <a:pt x="288" y="1024"/>
                  </a:lnTo>
                  <a:lnTo>
                    <a:pt x="576" y="512"/>
                  </a:lnTo>
                  <a:lnTo>
                    <a:pt x="288" y="0"/>
                  </a:lnTo>
                </a:path>
              </a:pathLst>
            </a:custGeom>
            <a:solidFill>
              <a:srgbClr val="4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514440" y="152280"/>
              <a:ext cx="1524600" cy="1525320"/>
              <a:chOff x="514440" y="152280"/>
              <a:chExt cx="1524600" cy="1525320"/>
            </a:xfrm>
          </p:grpSpPr>
          <p:sp>
            <p:nvSpPr>
              <p:cNvPr id="49" name=""/>
              <p:cNvSpPr/>
              <p:nvPr/>
            </p:nvSpPr>
            <p:spPr>
              <a:xfrm>
                <a:off x="1275480" y="152280"/>
                <a:ext cx="763560" cy="76356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0" y="128"/>
                    </a:moveTo>
                    <a:lnTo>
                      <a:pt x="0" y="0"/>
                    </a:lnTo>
                    <a:lnTo>
                      <a:pt x="360" y="640"/>
                    </a:lnTo>
                    <a:lnTo>
                      <a:pt x="288" y="64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14440" y="152280"/>
                <a:ext cx="762840" cy="76356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360" y="0"/>
                    </a:moveTo>
                    <a:lnTo>
                      <a:pt x="360" y="128"/>
                    </a:lnTo>
                    <a:lnTo>
                      <a:pt x="72" y="640"/>
                    </a:lnTo>
                    <a:lnTo>
                      <a:pt x="0" y="640"/>
                    </a:lnTo>
                    <a:lnTo>
                      <a:pt x="360" y="0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275480" y="914400"/>
                <a:ext cx="763560" cy="76320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288" y="0"/>
                    </a:moveTo>
                    <a:lnTo>
                      <a:pt x="360" y="0"/>
                    </a:lnTo>
                    <a:lnTo>
                      <a:pt x="0" y="640"/>
                    </a:lnTo>
                    <a:lnTo>
                      <a:pt x="0" y="512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4440" y="914400"/>
                <a:ext cx="762840" cy="763200"/>
              </a:xfrm>
              <a:custGeom>
                <a:avLst/>
                <a:gdLst/>
                <a:ahLst/>
                <a:rect l="l" t="t" r="r" b="b"/>
                <a:pathLst>
                  <a:path w="361" h="641">
                    <a:moveTo>
                      <a:pt x="72" y="0"/>
                    </a:moveTo>
                    <a:lnTo>
                      <a:pt x="360" y="512"/>
                    </a:lnTo>
                    <a:lnTo>
                      <a:pt x="360" y="640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Click to edit the title text format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54" name=""/>
          <p:cNvSpPr/>
          <p:nvPr/>
        </p:nvSpPr>
        <p:spPr>
          <a:xfrm>
            <a:off x="509760" y="515880"/>
            <a:ext cx="6062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B3A9-B0C6-43D5-B184-71CDA91702C3}" type="slidenum"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S%20logo%20blue%20&amp;%20gold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2008080" cy="1119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buClr>
                <a:srgbClr val="c000c0"/>
              </a:buClr>
              <a:buSzPct val="60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000000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4" marL="1828800" algn="ctr">
              <a:buClr>
                <a:srgbClr val="000000"/>
              </a:buClr>
              <a:buFont typeface="Book Antiqu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qa-test.com/toolpage.html" TargetMode="External"/><Relationship Id="rId2" Type="http://schemas.openxmlformats.org/officeDocument/2006/relationships/hyperlink" Target="http://www.sqa-test.com/toolpage.html" TargetMode="External"/><Relationship Id="rId3" Type="http://schemas.openxmlformats.org/officeDocument/2006/relationships/hyperlink" Target="http://www.sqa-test.com/toolpage.html" TargetMode="External"/><Relationship Id="rId4" Type="http://schemas.openxmlformats.org/officeDocument/2006/relationships/hyperlink" Target="http://www.sqa-test.com/toolpage.html" TargetMode="External"/><Relationship Id="rId5" Type="http://schemas.openxmlformats.org/officeDocument/2006/relationships/hyperlink" Target="http://www.sqa-test.com/toolpage.html" TargetMode="External"/><Relationship Id="rId6" Type="http://schemas.openxmlformats.org/officeDocument/2006/relationships/hyperlink" Target="http://www.automatedqa.com/products/tc.asp" TargetMode="External"/><Relationship Id="rId7" Type="http://schemas.openxmlformats.org/officeDocument/2006/relationships/hyperlink" Target="http://www.automatedqa.com/products/tc.asp" TargetMode="External"/><Relationship Id="rId8" Type="http://schemas.openxmlformats.org/officeDocument/2006/relationships/hyperlink" Target="http://www.automatedqa.com/products/tc.asp" TargetMode="External"/><Relationship Id="rId9" Type="http://schemas.openxmlformats.org/officeDocument/2006/relationships/hyperlink" Target="http://www.automatedqa.com/products/tc.asp" TargetMode="External"/><Relationship Id="rId10" Type="http://schemas.openxmlformats.org/officeDocument/2006/relationships/hyperlink" Target="http://www.automatedqa.com/products/tc.asp" TargetMode="External"/><Relationship Id="rId11" Type="http://schemas.openxmlformats.org/officeDocument/2006/relationships/hyperlink" Target="http://www.softwareautomation.com/index_e.htm" TargetMode="External"/><Relationship Id="rId12" Type="http://schemas.openxmlformats.org/officeDocument/2006/relationships/hyperlink" Target="http://www.softwareautomation.com/index_e.htm" TargetMode="External"/><Relationship Id="rId13" Type="http://schemas.openxmlformats.org/officeDocument/2006/relationships/hyperlink" Target="http://www.softwareautomation.com/index_e.htm" TargetMode="External"/><Relationship Id="rId14" Type="http://schemas.openxmlformats.org/officeDocument/2006/relationships/hyperlink" Target="http://www.softwareautomation.com/index_e.htm" TargetMode="External"/><Relationship Id="rId15" Type="http://schemas.openxmlformats.org/officeDocument/2006/relationships/hyperlink" Target="http://www.plumhall.com/sqs.html" TargetMode="External"/><Relationship Id="rId16" Type="http://schemas.openxmlformats.org/officeDocument/2006/relationships/hyperlink" Target="http://www.plumhall.com/sqs.html" TargetMode="External"/><Relationship Id="rId17" Type="http://schemas.openxmlformats.org/officeDocument/2006/relationships/hyperlink" Target="http://www.plumhall.com/sqs.html" TargetMode="External"/><Relationship Id="rId18" Type="http://schemas.openxmlformats.org/officeDocument/2006/relationships/hyperlink" Target="http://www.plumhall.com/sqs.html" TargetMode="External"/><Relationship Id="rId19" Type="http://schemas.openxmlformats.org/officeDocument/2006/relationships/hyperlink" Target="http://www.plumhall.com/sqs.html" TargetMode="External"/><Relationship Id="rId20" Type="http://schemas.openxmlformats.org/officeDocument/2006/relationships/hyperlink" Target="http://www.deccanetworld.com/html/prod_ip/orion_et.htm" TargetMode="External"/><Relationship Id="rId21" Type="http://schemas.openxmlformats.org/officeDocument/2006/relationships/hyperlink" Target="http://www.deccanetworld.com/html/prod_ip/orion_et.htm" TargetMode="External"/><Relationship Id="rId22" Type="http://schemas.openxmlformats.org/officeDocument/2006/relationships/hyperlink" Target="http://www.deccanetworld.com/html/prod_ip/orion_et.htm" TargetMode="External"/><Relationship Id="rId23" Type="http://schemas.openxmlformats.org/officeDocument/2006/relationships/hyperlink" Target="http://www.deccanetworld.com/html/prod_ip/orion_et.htm" TargetMode="External"/><Relationship Id="rId24" Type="http://schemas.openxmlformats.org/officeDocument/2006/relationships/hyperlink" Target="http://www.deccanetworld.com/html/prod_ip/orion_et.htm" TargetMode="External"/><Relationship Id="rId25" Type="http://schemas.openxmlformats.org/officeDocument/2006/relationships/hyperlink" Target="http://www.deccanetworld.com/html/prod_ip/orion_et.htm" TargetMode="External"/><Relationship Id="rId26" Type="http://schemas.openxmlformats.org/officeDocument/2006/relationships/hyperlink" Target="http://www.deccanetworld.com/html/prod_ip/orion_et.htm" TargetMode="External"/><Relationship Id="rId27" Type="http://schemas.openxmlformats.org/officeDocument/2006/relationships/hyperlink" Target="http://www.deccanetworld.com/html/prod_ip/orion_et.htm" TargetMode="External"/><Relationship Id="rId28" Type="http://schemas.openxmlformats.org/officeDocument/2006/relationships/hyperlink" Target="http://www.ldra.co.uk/pages/staticanalysis.htm" TargetMode="External"/><Relationship Id="rId29" Type="http://schemas.openxmlformats.org/officeDocument/2006/relationships/hyperlink" Target="http://www.ldra.co.uk/pages/staticanalysis.htm" TargetMode="External"/><Relationship Id="rId30" Type="http://schemas.openxmlformats.org/officeDocument/2006/relationships/hyperlink" Target="http://www.ldra.co.uk/pages/staticanalysis.htm" TargetMode="External"/><Relationship Id="rId31" Type="http://schemas.openxmlformats.org/officeDocument/2006/relationships/hyperlink" Target="http://www.ldra.co.uk/pages/staticanalysis.htm" TargetMode="External"/><Relationship Id="rId32" Type="http://schemas.openxmlformats.org/officeDocument/2006/relationships/hyperlink" Target="http://www.ldra.co.uk/pages/staticanalysis.htm" TargetMode="External"/><Relationship Id="rId33" Type="http://schemas.openxmlformats.org/officeDocument/2006/relationships/hyperlink" Target="http://www.ldra.co.uk/pages/staticanalysis.htm" TargetMode="External"/><Relationship Id="rId34" Type="http://schemas.openxmlformats.org/officeDocument/2006/relationships/hyperlink" Target="http://www.ldra.co.uk/pages/staticanalysis.htm" TargetMode="External"/><Relationship Id="rId35" Type="http://schemas.openxmlformats.org/officeDocument/2006/relationships/hyperlink" Target="http://www.ldra.co.uk/pages/staticanalysis.htm" TargetMode="External"/><Relationship Id="rId3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  <a:ea typeface="Times New Roman"/>
              </a:rPr>
              <a:t>Reviewing 25 years of testing technique experiments</a:t>
            </a: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 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42667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 Rif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33bc"/>
              </a:rPr>
              <a:t>Master Systems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04B El Camino Real 24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lsbad, California 9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0 729 338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 @ Master-Systems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65070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er. 1.0 -- 24 Aug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Data flow (coverage) 2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90720" y="2076480"/>
          <a:ext cx="7162560" cy="4114800"/>
        </p:xfrm>
        <a:graphic>
          <a:graphicData uri="http://schemas.openxmlformats.org/drawingml/2006/table">
            <a:tbl>
              <a:tblPr/>
              <a:tblGrid>
                <a:gridCol w="1752480"/>
                <a:gridCol w="5410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-p-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est cases are generated so that there is at least one path of each variable definition to each p-use of the variab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-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est cases are generated so that there is at least one path of each variable definition to each us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defini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-du-pa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est cases are generated for all the possible paths of each definition of each variable to each use of the defini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-d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est cases are generated for all the possible executable paths of each definition of each variable to each use of the defini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Mutation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ur types are not covered in this present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Data flow dominance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767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ll-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276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ll-du-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3276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ll-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2133720"/>
            <a:ext cx="1523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ll-p-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ome-c-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4038480"/>
            <a:ext cx="1600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ll-c-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ome-p-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2286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ll-p-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2286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ll-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2286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ll-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3290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ll-d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358128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429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429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09880" y="28954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915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438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24852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ig. 2, p. 372, “Selecting software test data using data flow information,” Sandra Rapps &amp; Elaine Weyuker,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IEEE Transactions on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, vol. SE-11, no. 4, April 1985, pp. 367-37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4648320"/>
            <a:ext cx="3352680" cy="1334160"/>
          </a:xfrm>
          <a:prstGeom prst="rect">
            <a:avLst/>
          </a:prstGeom>
          <a:solidFill>
            <a:srgbClr val="c0c0c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2960" indent="-91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2960" indent="-91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n contain an error that cannot be detected by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981080"/>
            <a:ext cx="3048120" cy="990720"/>
          </a:xfrm>
          <a:prstGeom prst="cloudCallout">
            <a:avLst>
              <a:gd name="adj1" fmla="val -30467"/>
              <a:gd name="adj2" fmla="val 79166"/>
            </a:avLst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 practice this cannot be achie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8520" y="399600"/>
            <a:ext cx="7810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Example - Finding square root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828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mpute the square root of P, where 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P &lt; 1, to the accuracy of 0 &lt; 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590920"/>
            <a:ext cx="4343400" cy="685800"/>
          </a:xfrm>
          <a:prstGeom prst="wedgeEllipseCallout">
            <a:avLst>
              <a:gd name="adj1" fmla="val -657"/>
              <a:gd name="adj2" fmla="val 87962"/>
            </a:avLst>
          </a:prstGeom>
          <a:solidFill>
            <a:srgbClr val="00ccff">
              <a:alpha val="5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There’s an error: the statements are interchanged. Will we find i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655308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ource: op. cit., Fig. 10, p. 37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Rapps%20Weyuker%20Fig%2010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87627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28520" y="39960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Example - Finding square root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the path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,6) and (1,2,3,4,2,3,5,2,7) satisfy the all-edges criterion but would not detect the error. Because C is set (wrong) but not used thereafter along the second pa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Implication for testing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where variables are defined and where they are used, and use the paths between definition and use to te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emember that there are two kinds of use: predicate (in a conditional statement) and in a computation (on the right side of an assignm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wo kinds of definition: the initial setting (e.g., Read) and the left side of an assignment state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There are tools! </a:t>
            </a:r>
            <a:br>
              <a:rPr sz="3600"/>
            </a:br>
            <a:r>
              <a:rPr b="0" i="1" lang="en-US" sz="3200" spc="-1" strike="noStrike">
                <a:solidFill>
                  <a:srgbClr val="c000c0"/>
                </a:solidFill>
                <a:latin typeface="Century Schoolbook"/>
              </a:rPr>
              <a:t>(I haven’t used any of them!)</a:t>
            </a:r>
            <a:endParaRPr b="1" i="1" lang="en-US" sz="32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 </a:t>
            </a:r>
            <a:r>
              <a:rPr b="0" lang="en-US" sz="2400" spc="-1" strike="noStrike" u="sng">
                <a:solidFill>
                  <a:srgbClr val="f20884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f20884"/>
                </a:solidFill>
                <a:uFillTx/>
                <a:latin typeface="Arial"/>
                <a:hlinkClick r:id="rId2"/>
              </a:rPr>
              <a:t>sqa</a:t>
            </a:r>
            <a:r>
              <a:rPr b="0" lang="en-US" sz="2400" spc="-1" strike="noStrike" u="sng">
                <a:solidFill>
                  <a:srgbClr val="f20884"/>
                </a:solidFill>
                <a:uFillTx/>
                <a:latin typeface="Arial"/>
                <a:hlinkClick r:id="rId3"/>
              </a:rPr>
              <a:t>-test.com/</a:t>
            </a:r>
            <a:r>
              <a:rPr b="0" lang="en-US" sz="2400" spc="-1" strike="noStrike" u="sng">
                <a:solidFill>
                  <a:srgbClr val="f20884"/>
                </a:solidFill>
                <a:uFillTx/>
                <a:latin typeface="Arial"/>
                <a:hlinkClick r:id="rId4"/>
              </a:rPr>
              <a:t>toolpage</a:t>
            </a:r>
            <a:r>
              <a:rPr b="0" lang="en-US" sz="2400" spc="-1" strike="noStrike" u="sng">
                <a:solidFill>
                  <a:srgbClr val="f20884"/>
                </a:solidFill>
                <a:uFillTx/>
                <a:latin typeface="Arial"/>
                <a:hlinkClick r:id="rId5"/>
              </a:rPr>
              <a:t>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ed test tools, last updated: 08/22/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Complete3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7"/>
              </a:rPr>
              <a:t>automatedqa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8"/>
              </a:rPr>
              <a:t>.com/products/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9"/>
              </a:rPr>
              <a:t>tc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10"/>
              </a:rPr>
              <a:t>.asp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orama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11"/>
              </a:rPr>
              <a:t>http://www.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12"/>
              </a:rPr>
              <a:t>softwareautomation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13"/>
              </a:rPr>
              <a:t>.com/index_e.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14"/>
              </a:rPr>
              <a:t>htm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m Hall SQS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15"/>
              </a:rPr>
              <a:t>http://www.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16"/>
              </a:rPr>
              <a:t>plumhall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17"/>
              </a:rPr>
              <a:t>.com/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18"/>
              </a:rPr>
              <a:t>sqs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19"/>
              </a:rPr>
              <a:t>.html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onET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20"/>
              </a:rPr>
              <a:t>http://www.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21"/>
              </a:rPr>
              <a:t>deccanetworld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22"/>
              </a:rPr>
              <a:t>.com/html/prod_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23"/>
              </a:rPr>
              <a:t>ip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24"/>
              </a:rPr>
              <a:t>/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25"/>
              </a:rPr>
              <a:t>orion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26"/>
              </a:rPr>
              <a:t>_et.</a:t>
            </a:r>
            <a:r>
              <a:rPr b="0" lang="en-US" sz="20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27"/>
              </a:rPr>
              <a:t>htm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RA TestBed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28"/>
              </a:rPr>
              <a:t>http://www.</a:t>
            </a:r>
            <a:r>
              <a:rPr b="0" lang="en-US" sz="18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29"/>
              </a:rPr>
              <a:t>ldra</a:t>
            </a:r>
            <a:r>
              <a:rPr b="0" lang="en-US" sz="18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30"/>
              </a:rPr>
              <a:t>.co.</a:t>
            </a:r>
            <a:r>
              <a:rPr b="0" lang="en-US" sz="18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31"/>
              </a:rPr>
              <a:t>uk</a:t>
            </a:r>
            <a:r>
              <a:rPr b="0" lang="en-US" sz="18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32"/>
              </a:rPr>
              <a:t>/pages/</a:t>
            </a:r>
            <a:r>
              <a:rPr b="0" lang="en-US" sz="18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33"/>
              </a:rPr>
              <a:t>staticanalysis</a:t>
            </a:r>
            <a:r>
              <a:rPr b="0" lang="en-US" sz="18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34"/>
              </a:rPr>
              <a:t>.</a:t>
            </a:r>
            <a:r>
              <a:rPr b="0" lang="en-US" sz="1800" spc="-1" strike="noStrike" u="sng">
                <a:solidFill>
                  <a:srgbClr val="f20884"/>
                </a:solidFill>
                <a:uFillTx/>
                <a:latin typeface="Times New Roman"/>
                <a:ea typeface="Times New Roman"/>
                <a:hlinkClick r:id="rId35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7772400" cy="5989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23880" y="152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Appendix: Cheat sh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Appendix: Cheat sheet </a:t>
            </a:r>
            <a:r>
              <a:rPr b="0" i="1" lang="en-US" sz="2400" spc="-1" strike="noStrike">
                <a:solidFill>
                  <a:srgbClr val="c000c0"/>
                </a:solidFill>
                <a:latin typeface="Century Schoolbook"/>
              </a:rPr>
              <a:t>(cont.)</a:t>
            </a:r>
            <a:endParaRPr b="1" i="1" lang="en-US" sz="24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gram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-use gra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btained from the flow graph by associating with eac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e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c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-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{variables which have global c-uses in blo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c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{variables which have global definitions in bloc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ssociating with eac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he s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-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{variables which have p-uses on edg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}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lso define sets of no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c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{no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-us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there is a definition-clear path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}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p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{edg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-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there is a definition-clear path with respect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}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5943600"/>
            <a:ext cx="701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ource for both of the Appendix pages: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pplicable Family of Data Flow Testing Criteria,” by PHYLLIS G. FRANKL &amp; ELAINE J. WEYUKER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EEE TRANSACTIONS ON SOFTWARE ENGINEE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OL. 14. No. 10, OCTOBER 1988, 1483-149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Based on the article . . .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vTimes-Integra"/>
              </a:rPr>
              <a:t>By Natalia Juristo, Ana M. Moreno, and Sira Vegas, of the </a:t>
            </a:r>
            <a:r>
              <a:rPr b="0" lang="en-US" sz="2400" spc="-1" strike="noStrike">
                <a:solidFill>
                  <a:srgbClr val="000000"/>
                </a:solidFill>
                <a:latin typeface="AdvTimes-i-Integra"/>
              </a:rPr>
              <a:t>Facultad de Informática, Universidad Politécnica de Madrid, Campus de Montegancedo s/n, 28660 Boadilla del Monte, Madrid, Sp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vTimes-Integr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dvTimes-Integra"/>
              </a:rPr>
              <a:t>Empirical 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AdvTimes-Integra"/>
              </a:rPr>
              <a:t>, vol. 9, pp. 7–44, 2004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vTimes-i-Integra"/>
              </a:rPr>
              <a:t>Kluwer publishes the journal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dvTimes-i-Integra"/>
              </a:rPr>
              <a:t>You should subscrib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dvTimes-i-Integra"/>
              </a:rPr>
              <a:t>This article is free from the Kluwer web s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dvTimes-i-Integra"/>
              </a:rPr>
              <a:t>for a limited tim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EMSE" descr=""/>
          <p:cNvPicPr/>
          <p:nvPr/>
        </p:nvPicPr>
        <p:blipFill>
          <a:blip r:embed="rId1"/>
          <a:stretch/>
        </p:blipFill>
        <p:spPr>
          <a:xfrm>
            <a:off x="7162920" y="4191120"/>
            <a:ext cx="1668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What’s the best way to test?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’s the purpose of test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 show something works?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 break the software?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… in the life cycl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look at the source cod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or dynamic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re a functional requirement that can guide u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we know the answer for every test cas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we trying to see if a change affected non-changed par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es “best” mean: finds the most bugs with the least effort, in the least time, with the greatest confide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The problem with testing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in a small computer program, there is such a large number of states it is impossible to test them all in any practical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 all paths -- that is, every statement -- is inadequate because there could exist an input that would go down a path but not show an err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the challenge is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termine the smallest number of test cases that will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buClr>
                <a:srgbClr val="f20884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est the greatest number of states.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ms like an important problem, one that everyone has. What is the soluti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Unit testing: 3 meanings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076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thing being tested -- Little, perhaps by itself. Sometimes called module tes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life cycle -- just after coding, before “integration testing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est -- white box or state tes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esentation is ab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finition. We must assume that we have the source code and can look at it to determine the paths of the program and states/values of the variables. Also, we know the right answ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Unit testing techniques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20764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 concentrates on paths through the source c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ta f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 concentrates on data value changes in the source c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c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 models faults by inserting them into source code &amp; seeing if test cases catch them. Really a criterion for test case adequacy, not so much for test case gen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Random unit testing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90720" y="2286000"/>
          <a:ext cx="7162560" cy="3505320"/>
        </p:xfrm>
        <a:graphic>
          <a:graphicData uri="http://schemas.openxmlformats.org/drawingml/2006/table">
            <a:tbl>
              <a:tblPr/>
              <a:tblGrid>
                <a:gridCol w="1904760"/>
                <a:gridCol w="5257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e rand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est cases are generated at random, and generation stops when there appear to be enoug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ded by number of c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est cases are generated at random, and generation stops when a given number of cases has been reach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 gu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est cases are generated guided by the subjec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knowledge of what typical errors are usually made when programming. It stops when they all appear to have been cover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Control flow (coverage)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90720" y="2209680"/>
          <a:ext cx="7543800" cy="4114800"/>
        </p:xfrm>
        <a:graphic>
          <a:graphicData uri="http://schemas.openxmlformats.org/drawingml/2006/table">
            <a:tbl>
              <a:tblPr/>
              <a:tblGrid>
                <a:gridCol w="2057400"/>
                <a:gridCol w="5486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ence or stat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he test cases are generated so that all the program statements are executed at least o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/bra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he test cases are generated so that all the program decisions take the value true or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he test cases are generated so that all the conditions (predicates) that form the logical expression of the decision take the value true or fal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+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Decision coverage is not always achieved with condition coverage. Here, the cases generated with condition coverage are supplemented to achieve decision coverag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est cases are generated to execute all program paths. This criterion is not workable in practice because it generates approximately an infinite number of cas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8880" y="3996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c0"/>
                </a:solidFill>
                <a:latin typeface="Century Schoolbook"/>
              </a:rPr>
              <a:t>Data flow (coverage) 1</a:t>
            </a:r>
            <a:endParaRPr b="1" i="1" lang="en-US" sz="3600" spc="-1" strike="noStrike">
              <a:solidFill>
                <a:srgbClr val="c000c0"/>
              </a:solidFill>
              <a:latin typeface="Century Schoolboo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90720" y="2076480"/>
          <a:ext cx="7162560" cy="4676760"/>
        </p:xfrm>
        <a:graphic>
          <a:graphicData uri="http://schemas.openxmlformats.org/drawingml/2006/table">
            <a:tbl>
              <a:tblPr/>
              <a:tblGrid>
                <a:gridCol w="1981080"/>
                <a:gridCol w="51814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-defin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est cases are generated to cover each definition of each variable for at least one use of the variab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-computation-uses/some-predicate-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est cases are generated so that there is at least one path of each variable definition to each c-use of the variable. If there are variable definitions that are not covered, use p-us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-p-uses/ some-c-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est cases are generated so that there is at least one path of each variable definition to each p-use of the variable. If there are variable definitions that are not covered, use c-us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-c-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dvTimes-Integra"/>
                        </a:rPr>
                        <a:t>Test cases are generated so that there is at least one path of each variable definition to each c-use of the variabl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17:55:13Z</dcterms:created>
  <dc:creator>Stan Rifkin</dc:creator>
  <dc:description/>
  <dc:language>en-US</dc:language>
  <cp:lastModifiedBy>Stan Rifkin</cp:lastModifiedBy>
  <dcterms:modified xsi:type="dcterms:W3CDTF">2004-08-24T00:37:10Z</dcterms:modified>
  <cp:revision>68</cp:revision>
  <dc:subject/>
  <dc:title>Reviewing 25 years of testing technique experiments </dc:title>
</cp:coreProperties>
</file>