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440" y="152280"/>
            <a:ext cx="1524600" cy="1525320"/>
            <a:chOff x="514440" y="152280"/>
            <a:chExt cx="1524600" cy="1525320"/>
          </a:xfrm>
        </p:grpSpPr>
        <p:sp>
          <p:nvSpPr>
            <p:cNvPr id="1" name=""/>
            <p:cNvSpPr/>
            <p:nvPr/>
          </p:nvSpPr>
          <p:spPr>
            <a:xfrm>
              <a:off x="666360" y="304560"/>
              <a:ext cx="1220400" cy="1220760"/>
            </a:xfrm>
            <a:custGeom>
              <a:avLst/>
              <a:gdLst/>
              <a:ahLst/>
              <a:rect l="l" t="t" r="r" b="b"/>
              <a:pathLst>
                <a:path w="577" h="1025">
                  <a:moveTo>
                    <a:pt x="288" y="0"/>
                  </a:moveTo>
                  <a:lnTo>
                    <a:pt x="0" y="512"/>
                  </a:lnTo>
                  <a:lnTo>
                    <a:pt x="288" y="1024"/>
                  </a:lnTo>
                  <a:lnTo>
                    <a:pt x="576" y="512"/>
                  </a:lnTo>
                  <a:lnTo>
                    <a:pt x="288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14440" y="152280"/>
              <a:ext cx="1524600" cy="1525320"/>
              <a:chOff x="514440" y="152280"/>
              <a:chExt cx="1524600" cy="1525320"/>
            </a:xfrm>
          </p:grpSpPr>
          <p:sp>
            <p:nvSpPr>
              <p:cNvPr id="3" name=""/>
              <p:cNvSpPr/>
              <p:nvPr/>
            </p:nvSpPr>
            <p:spPr>
              <a:xfrm>
                <a:off x="12754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0" y="128"/>
                    </a:moveTo>
                    <a:lnTo>
                      <a:pt x="0" y="0"/>
                    </a:lnTo>
                    <a:lnTo>
                      <a:pt x="360" y="640"/>
                    </a:lnTo>
                    <a:lnTo>
                      <a:pt x="288" y="64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440" y="152280"/>
                <a:ext cx="76284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360" y="0"/>
                    </a:moveTo>
                    <a:lnTo>
                      <a:pt x="360" y="128"/>
                    </a:lnTo>
                    <a:lnTo>
                      <a:pt x="72" y="640"/>
                    </a:lnTo>
                    <a:lnTo>
                      <a:pt x="0" y="640"/>
                    </a:lnTo>
                    <a:lnTo>
                      <a:pt x="36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75480" y="914400"/>
                <a:ext cx="76356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288" y="0"/>
                    </a:moveTo>
                    <a:lnTo>
                      <a:pt x="360" y="0"/>
                    </a:lnTo>
                    <a:lnTo>
                      <a:pt x="0" y="640"/>
                    </a:lnTo>
                    <a:lnTo>
                      <a:pt x="0" y="512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4440" y="914400"/>
                <a:ext cx="76284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72" y="0"/>
                    </a:moveTo>
                    <a:lnTo>
                      <a:pt x="360" y="512"/>
                    </a:lnTo>
                    <a:lnTo>
                      <a:pt x="360" y="640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09760" y="515880"/>
            <a:ext cx="606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72B2-5AA8-47AD-A4D3-947F4140B611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4440" y="152280"/>
            <a:ext cx="1524600" cy="1525320"/>
            <a:chOff x="514440" y="152280"/>
            <a:chExt cx="1524600" cy="1525320"/>
          </a:xfrm>
        </p:grpSpPr>
        <p:sp>
          <p:nvSpPr>
            <p:cNvPr id="47" name=""/>
            <p:cNvSpPr/>
            <p:nvPr/>
          </p:nvSpPr>
          <p:spPr>
            <a:xfrm>
              <a:off x="666360" y="304560"/>
              <a:ext cx="1220400" cy="1220760"/>
            </a:xfrm>
            <a:custGeom>
              <a:avLst/>
              <a:gdLst/>
              <a:ahLst/>
              <a:rect l="l" t="t" r="r" b="b"/>
              <a:pathLst>
                <a:path w="577" h="1025">
                  <a:moveTo>
                    <a:pt x="288" y="0"/>
                  </a:moveTo>
                  <a:lnTo>
                    <a:pt x="0" y="512"/>
                  </a:lnTo>
                  <a:lnTo>
                    <a:pt x="288" y="1024"/>
                  </a:lnTo>
                  <a:lnTo>
                    <a:pt x="576" y="512"/>
                  </a:lnTo>
                  <a:lnTo>
                    <a:pt x="288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14440" y="152280"/>
              <a:ext cx="1524600" cy="1525320"/>
              <a:chOff x="514440" y="152280"/>
              <a:chExt cx="1524600" cy="1525320"/>
            </a:xfrm>
          </p:grpSpPr>
          <p:sp>
            <p:nvSpPr>
              <p:cNvPr id="49" name=""/>
              <p:cNvSpPr/>
              <p:nvPr/>
            </p:nvSpPr>
            <p:spPr>
              <a:xfrm>
                <a:off x="12754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0" y="128"/>
                    </a:moveTo>
                    <a:lnTo>
                      <a:pt x="0" y="0"/>
                    </a:lnTo>
                    <a:lnTo>
                      <a:pt x="360" y="640"/>
                    </a:lnTo>
                    <a:lnTo>
                      <a:pt x="288" y="64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4440" y="152280"/>
                <a:ext cx="76284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360" y="0"/>
                    </a:moveTo>
                    <a:lnTo>
                      <a:pt x="360" y="128"/>
                    </a:lnTo>
                    <a:lnTo>
                      <a:pt x="72" y="640"/>
                    </a:lnTo>
                    <a:lnTo>
                      <a:pt x="0" y="640"/>
                    </a:lnTo>
                    <a:lnTo>
                      <a:pt x="36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75480" y="914400"/>
                <a:ext cx="76356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288" y="0"/>
                    </a:moveTo>
                    <a:lnTo>
                      <a:pt x="360" y="0"/>
                    </a:lnTo>
                    <a:lnTo>
                      <a:pt x="0" y="640"/>
                    </a:lnTo>
                    <a:lnTo>
                      <a:pt x="0" y="512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440" y="914400"/>
                <a:ext cx="76284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72" y="0"/>
                    </a:moveTo>
                    <a:lnTo>
                      <a:pt x="360" y="512"/>
                    </a:lnTo>
                    <a:lnTo>
                      <a:pt x="360" y="640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509760" y="515880"/>
            <a:ext cx="606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32B6-BBD6-4D12-9D44-E16B6E2FF842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ombining operational excellence and product innovativenes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 Rif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33bc"/>
              </a:rPr>
              <a:t>Master System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4B El Camino Real 24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sbad, California 9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 760 729 33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 @ Master-System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43104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5920"/>
                <a:tab algn="r" pos="788508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7 October 2004 - Ver. 2.0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© Copyright Mast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008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entury Schoolbook"/>
              </a:rPr>
              <a:t>Operationally Excellen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2819520" cy="973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613240" cy="1627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3521160" cy="84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5105520"/>
            <a:ext cx="4521240" cy="768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2701800" cy="763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quality =&gt; lowest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” =&gt; short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-focused, process-innov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Century Schoolbook"/>
              </a:rPr>
              <a:t>Product Innovative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1898640" cy="94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2343240" cy="1770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3915000" cy="857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leader in innovation (styling, combination of features, conveni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: number of patents, Nobelists, turns in the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257800" y="3657600"/>
            <a:ext cx="3429000" cy="701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895480" y="3733920"/>
            <a:ext cx="22860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Schoolbook"/>
              </a:rPr>
              <a:t>Customer Intimate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9880" y="5257800"/>
            <a:ext cx="2330640" cy="46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1939680" cy="652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2590920" cy="1190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858000" y="4648320"/>
            <a:ext cx="1838160" cy="711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inite”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: “walletsha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solution, one stop sh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mooze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es not mean dirty or ki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1905120" cy="884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181480" y="5943600"/>
            <a:ext cx="26179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Focus on one,</a:t>
            </a:r>
            <a:br>
              <a:rPr sz="3600"/>
            </a:b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must meet the threshold in all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2971800"/>
            <a:ext cx="7543800" cy="3276720"/>
            <a:chOff x="1066680" y="2971800"/>
            <a:chExt cx="7543800" cy="3276720"/>
          </a:xfrm>
        </p:grpSpPr>
        <p:sp>
          <p:nvSpPr>
            <p:cNvPr id="221" name=""/>
            <p:cNvSpPr/>
            <p:nvPr/>
          </p:nvSpPr>
          <p:spPr>
            <a:xfrm>
              <a:off x="1676520" y="2971800"/>
              <a:ext cx="0" cy="327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6248520"/>
              <a:ext cx="586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2320" y="2971800"/>
              <a:ext cx="1066680" cy="327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38480" y="5334120"/>
              <a:ext cx="1067040" cy="914400"/>
            </a:xfrm>
            <a:prstGeom prst="rect">
              <a:avLst/>
            </a:prstGeom>
            <a:solidFill>
              <a:srgbClr val="02ab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4953240"/>
              <a:ext cx="1067040" cy="1295280"/>
            </a:xfrm>
            <a:prstGeom prst="rect">
              <a:avLst/>
            </a:prstGeom>
            <a:solidFill>
              <a:srgbClr val="dd08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495324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hallenge: Observed wisdom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to achieve one discipline we must give up something on the other two -- in order to focu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3200" spc="-1" strike="noStrike">
                <a:solidFill>
                  <a:srgbClr val="dd0806"/>
                </a:solidFill>
                <a:latin typeface="Arial Black"/>
              </a:rPr>
              <a:t>Bos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nts to be BO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perationally excellent AND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roduct innovative!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Two ways to achieve these two disciplines simultaneously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buClr>
                <a:srgbClr val="c000c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novativeness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novation process, A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c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y the fate of bright idea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Apply </a:t>
            </a:r>
            <a:r>
              <a:rPr b="1" lang="en-US" sz="3600" spc="-1" strike="noStrike">
                <a:solidFill>
                  <a:srgbClr val="c000c0"/>
                </a:solidFill>
                <a:latin typeface="Century Schoolbook"/>
              </a:rPr>
              <a:t>process</a:t>
            </a: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 innovation to </a:t>
            </a:r>
            <a:r>
              <a:rPr b="1" lang="en-US" sz="3600" spc="-1" strike="noStrike">
                <a:solidFill>
                  <a:srgbClr val="c000c0"/>
                </a:solidFill>
                <a:latin typeface="Century Schoolbook"/>
              </a:rPr>
              <a:t>product</a:t>
            </a: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 innovativenes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ly excellent firms are expert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nova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not translate that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expertise to product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trolled experimentation: isolation of cause and effect,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isk-driven portfolio management,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reative agility, art of the possible, challenge assumptions, etc.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Square peg - round hole?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35" name=""/>
          <p:cNvSpPr/>
          <p:nvPr/>
        </p:nvSpPr>
        <p:spPr>
          <a:xfrm rot="1902600">
            <a:off x="1828440" y="3429000"/>
            <a:ext cx="3429000" cy="2743200"/>
          </a:xfrm>
          <a:prstGeom prst="can">
            <a:avLst>
              <a:gd name="adj" fmla="val 25000"/>
            </a:avLst>
          </a:prstGeom>
          <a:solidFill>
            <a:srgbClr val="02a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66000">
            <a:off x="2971440" y="3657600"/>
            <a:ext cx="2286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4956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Schoolbook"/>
              </a:rPr>
              <a:t>Strate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8333000">
            <a:off x="4334040" y="2218680"/>
            <a:ext cx="1824120" cy="1805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286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Schoolbook"/>
              </a:rPr>
              <a:t>CM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Double-bubble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40" y="1523880"/>
            <a:ext cx="91407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5840" y="5884920"/>
            <a:ext cx="77616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31120" y="6635880"/>
            <a:ext cx="23540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900" spc="-1" strike="noStrike">
                <a:solidFill>
                  <a:srgbClr val="747474"/>
                </a:solidFill>
                <a:latin typeface="Arial"/>
              </a:rPr>
              <a:t>F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10512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BRC: R&amp;D Staff Related To Software Busines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51560" y="2623680"/>
            <a:ext cx="6541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51560" y="3639600"/>
            <a:ext cx="735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51560" y="2286000"/>
            <a:ext cx="7351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9240" y="1862280"/>
            <a:ext cx="253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0 employee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9200" y="3726000"/>
            <a:ext cx="2912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5 Firmwar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0120" y="3147840"/>
            <a:ext cx="2759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System Engin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2000" y="3556080"/>
            <a:ext cx="1387440" cy="931680"/>
          </a:xfrm>
          <a:prstGeom prst="can">
            <a:avLst>
              <a:gd name="adj" fmla="val 1618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a35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2000" y="2878200"/>
            <a:ext cx="1387440" cy="847800"/>
          </a:xfrm>
          <a:prstGeom prst="can">
            <a:avLst>
              <a:gd name="adj" fmla="val 1618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a35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2000" y="2286000"/>
            <a:ext cx="1387440" cy="932040"/>
          </a:xfrm>
          <a:prstGeom prst="can">
            <a:avLst>
              <a:gd name="adj" fmla="val 16185"/>
            </a:avLst>
          </a:prstGeom>
          <a:solidFill>
            <a:srgbClr val="588cda"/>
          </a:solidFill>
          <a:ln w="9360">
            <a:solidFill>
              <a:srgbClr val="588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68720" y="4757760"/>
            <a:ext cx="766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8080" y="3487680"/>
            <a:ext cx="778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2556000"/>
            <a:ext cx="778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49440" y="3132000"/>
            <a:ext cx="31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8680" y="2793960"/>
            <a:ext cx="99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87680" y="3825720"/>
            <a:ext cx="1347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05680" y="3116160"/>
            <a:ext cx="896760" cy="609840"/>
          </a:xfrm>
          <a:prstGeom prst="can">
            <a:avLst>
              <a:gd name="adj" fmla="val 161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a35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05680" y="2540160"/>
            <a:ext cx="896760" cy="687240"/>
          </a:xfrm>
          <a:prstGeom prst="can">
            <a:avLst>
              <a:gd name="adj" fmla="val 1618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a35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5680" y="2286000"/>
            <a:ext cx="896760" cy="338040"/>
          </a:xfrm>
          <a:prstGeom prst="can">
            <a:avLst>
              <a:gd name="adj" fmla="val 16185"/>
            </a:avLst>
          </a:prstGeom>
          <a:solidFill>
            <a:srgbClr val="588cda"/>
          </a:solidFill>
          <a:ln w="9360">
            <a:solidFill>
              <a:srgbClr val="588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48720" y="4741920"/>
            <a:ext cx="386316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o 60 % of personnel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s research and produc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ment will becom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ware rel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49440" y="4402080"/>
            <a:ext cx="31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9440" y="2370240"/>
            <a:ext cx="31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3000" y="6180120"/>
            <a:ext cx="13989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ource: FV/P-BI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Fate of bright idea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2096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2a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1981080"/>
            <a:ext cx="7239240" cy="2318760"/>
            <a:chOff x="1295280" y="1981080"/>
            <a:chExt cx="7239240" cy="2318760"/>
          </a:xfrm>
        </p:grpSpPr>
        <p:sp>
          <p:nvSpPr>
            <p:cNvPr id="245" name=""/>
            <p:cNvSpPr/>
            <p:nvPr/>
          </p:nvSpPr>
          <p:spPr>
            <a:xfrm>
              <a:off x="1295280" y="3429000"/>
              <a:ext cx="266724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3352680"/>
              <a:ext cx="2667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atent Pattern Mainten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5280" y="1981080"/>
              <a:ext cx="2667240" cy="838440"/>
            </a:xfrm>
            <a:prstGeom prst="rect">
              <a:avLst/>
            </a:prstGeom>
            <a:solidFill>
              <a:srgbClr val="02ab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1981080"/>
              <a:ext cx="2666880" cy="838440"/>
            </a:xfrm>
            <a:prstGeom prst="rect">
              <a:avLst/>
            </a:prstGeom>
            <a:solidFill>
              <a:srgbClr val="dd08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15000" y="3429000"/>
              <a:ext cx="2666880" cy="83808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205740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14776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al Attain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38680" y="358128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eg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209680"/>
              <a:ext cx="1752480" cy="381240"/>
            </a:xfrm>
            <a:prstGeom prst="rightArrow">
              <a:avLst>
                <a:gd name="adj1" fmla="val 50000"/>
                <a:gd name="adj2" fmla="val 114920"/>
              </a:avLst>
            </a:prstGeom>
            <a:solidFill>
              <a:srgbClr val="dd08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0" y="2819520"/>
              <a:ext cx="457200" cy="6094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3581280"/>
              <a:ext cx="1752480" cy="533520"/>
            </a:xfrm>
            <a:prstGeom prst="leftArrow">
              <a:avLst>
                <a:gd name="adj1" fmla="val 50000"/>
                <a:gd name="adj2" fmla="val 8211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1904760" y="2819160"/>
              <a:ext cx="60948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514600" y="2819160"/>
              <a:ext cx="320040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429000"/>
              <a:ext cx="320040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57200" y="6338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alcott Parsons,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he theory of actio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752480"/>
            <a:ext cx="7619760" cy="289584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Secrets to achieving TWO discipline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regate, 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y to bala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emphasis on putting back together what has been segreg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est performers have both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integration (Innovate adoption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: 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rnerstone of operational excellence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nnot plan innovation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Is it possible to achieve operational excellence AND product innovativeness?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special effor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required at strategic level to marry the tw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many examples to imit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ight be the kind of challenge that </a:t>
            </a:r>
            <a:r>
              <a:rPr b="1" lang="en-US" sz="3200" spc="-1" strike="noStrike">
                <a:solidFill>
                  <a:srgbClr val="dd0806"/>
                </a:solidFill>
                <a:latin typeface="Arial Black"/>
              </a:rPr>
              <a:t>Bos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swer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85840" y="5884920"/>
            <a:ext cx="77616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531120" y="6635880"/>
            <a:ext cx="23540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900" spc="-1" strike="noStrike">
                <a:solidFill>
                  <a:srgbClr val="747474"/>
                </a:solidFill>
                <a:latin typeface="Arial"/>
              </a:rPr>
              <a:t>F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49480" y="1009800"/>
            <a:ext cx="7119360" cy="5159880"/>
            <a:chOff x="1149480" y="1009800"/>
            <a:chExt cx="7119360" cy="5159880"/>
          </a:xfrm>
        </p:grpSpPr>
        <p:sp>
          <p:nvSpPr>
            <p:cNvPr id="268" name=""/>
            <p:cNvSpPr/>
            <p:nvPr/>
          </p:nvSpPr>
          <p:spPr>
            <a:xfrm>
              <a:off x="1213920" y="2214000"/>
              <a:ext cx="705312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3920" y="5232960"/>
              <a:ext cx="70531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3920" y="4721760"/>
              <a:ext cx="70531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3920" y="4222440"/>
              <a:ext cx="70531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3920" y="3723480"/>
              <a:ext cx="70531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3920" y="3225960"/>
              <a:ext cx="705312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3920" y="2712960"/>
              <a:ext cx="705312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13920" y="2214000"/>
              <a:ext cx="705312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3920" y="2214000"/>
              <a:ext cx="7053120" cy="35179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3920" y="2214000"/>
              <a:ext cx="1440" cy="351792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9480" y="5731920"/>
              <a:ext cx="644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49480" y="5232960"/>
              <a:ext cx="644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49480" y="4721760"/>
              <a:ext cx="644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49480" y="4222440"/>
              <a:ext cx="644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9480" y="3723480"/>
              <a:ext cx="644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9480" y="3225960"/>
              <a:ext cx="644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9480" y="2712960"/>
              <a:ext cx="644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9480" y="2214000"/>
              <a:ext cx="644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3920" y="5731920"/>
              <a:ext cx="70531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21392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46052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70532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9386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1834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4282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7480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91960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16476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980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6428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8876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1342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790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242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85712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0192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34888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59368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83884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08508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1656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56316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80796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05276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9792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4452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775640" y="5731560"/>
              <a:ext cx="180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0226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67400" y="5731560"/>
              <a:ext cx="1440" cy="6876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331280" y="5675040"/>
              <a:ext cx="244800" cy="5652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576440" y="5552280"/>
              <a:ext cx="244800" cy="12312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821240" y="5135760"/>
              <a:ext cx="246240" cy="41616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67480" y="5135760"/>
              <a:ext cx="244800" cy="1368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312640" y="4901040"/>
              <a:ext cx="244800" cy="24804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557440" y="4721400"/>
              <a:ext cx="232920" cy="17964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790360" y="4498920"/>
              <a:ext cx="244800" cy="22212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035520" y="3682800"/>
              <a:ext cx="246600" cy="81612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282120" y="2935080"/>
              <a:ext cx="244800" cy="74772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27280" y="2213640"/>
              <a:ext cx="222480" cy="721080"/>
            </a:xfrm>
            <a:prstGeom prst="line">
              <a:avLst/>
            </a:prstGeom>
            <a:ln w="363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1240" y="5731920"/>
              <a:ext cx="246240" cy="144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067480" y="5675040"/>
              <a:ext cx="244800" cy="5652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312640" y="5662800"/>
              <a:ext cx="244800" cy="118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557440" y="5634720"/>
              <a:ext cx="232920" cy="280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90360" y="5606640"/>
              <a:ext cx="244800" cy="2772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035520" y="5580000"/>
              <a:ext cx="246600" cy="2664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282120" y="5565960"/>
              <a:ext cx="244800" cy="136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527280" y="5523480"/>
              <a:ext cx="244800" cy="4212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772080" y="5509800"/>
              <a:ext cx="244800" cy="136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016880" y="5482800"/>
              <a:ext cx="232920" cy="262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249800" y="5385960"/>
              <a:ext cx="244800" cy="9684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494960" y="5329800"/>
              <a:ext cx="246240" cy="5616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41200" y="5232960"/>
              <a:ext cx="244800" cy="964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986360" y="5081040"/>
              <a:ext cx="244800" cy="15192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231160" y="4984200"/>
              <a:ext cx="232920" cy="964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64080" y="4872960"/>
              <a:ext cx="244800" cy="11088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709240" y="4721760"/>
              <a:ext cx="246600" cy="1512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955840" y="4470840"/>
              <a:ext cx="244800" cy="2502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01000" y="4222440"/>
              <a:ext cx="244800" cy="2484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800" y="3973680"/>
              <a:ext cx="246240" cy="2484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692400" y="3723120"/>
              <a:ext cx="231120" cy="2502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23520" y="3474720"/>
              <a:ext cx="246240" cy="2484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170120" y="3225960"/>
              <a:ext cx="244800" cy="2484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414920" y="3072600"/>
              <a:ext cx="244800" cy="1530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660080" y="2824200"/>
              <a:ext cx="244800" cy="248400"/>
            </a:xfrm>
            <a:prstGeom prst="line">
              <a:avLst/>
            </a:prstGeom>
            <a:ln w="36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557440" y="5703480"/>
              <a:ext cx="232920" cy="280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790360" y="5675400"/>
              <a:ext cx="244800" cy="280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035520" y="5634720"/>
              <a:ext cx="246600" cy="4032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282120" y="5606640"/>
              <a:ext cx="244800" cy="2772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27280" y="5580000"/>
              <a:ext cx="244800" cy="2664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772080" y="5483160"/>
              <a:ext cx="244800" cy="964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16880" y="5385960"/>
              <a:ext cx="232920" cy="9684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249800" y="5329800"/>
              <a:ext cx="244800" cy="5616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494960" y="5232960"/>
              <a:ext cx="246240" cy="964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741200" y="5121720"/>
              <a:ext cx="244800" cy="1108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986360" y="4830840"/>
              <a:ext cx="244800" cy="2908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231160" y="4374000"/>
              <a:ext cx="232920" cy="4564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464080" y="3973320"/>
              <a:ext cx="244800" cy="39996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709240" y="3363480"/>
              <a:ext cx="246600" cy="60984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955840" y="2670840"/>
              <a:ext cx="244800" cy="69264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201000" y="2214000"/>
              <a:ext cx="244800" cy="4564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445800" y="2213640"/>
              <a:ext cx="1440" cy="180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692400" y="1411920"/>
              <a:ext cx="231120" cy="40176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23520" y="1203480"/>
              <a:ext cx="246240" cy="20808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170120" y="1065960"/>
              <a:ext cx="244800" cy="13752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4920" y="1009800"/>
              <a:ext cx="244800" cy="56160"/>
            </a:xfrm>
            <a:prstGeom prst="line">
              <a:avLst/>
            </a:prstGeom>
            <a:ln w="36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1160" y="5731920"/>
              <a:ext cx="232920" cy="144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64080" y="5731920"/>
              <a:ext cx="244800" cy="144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709240" y="5717160"/>
              <a:ext cx="246600" cy="1404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955840" y="5703480"/>
              <a:ext cx="244800" cy="1368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201000" y="5663160"/>
              <a:ext cx="244800" cy="4032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445800" y="5592600"/>
              <a:ext cx="246240" cy="7056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92400" y="5537880"/>
              <a:ext cx="231120" cy="5436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923520" y="5469120"/>
              <a:ext cx="246240" cy="6876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70120" y="5358240"/>
              <a:ext cx="244800" cy="11088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414920" y="5301720"/>
              <a:ext cx="244800" cy="5616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60080" y="5232600"/>
              <a:ext cx="244800" cy="68760"/>
            </a:xfrm>
            <a:prstGeom prst="line">
              <a:avLst/>
            </a:prstGeom>
            <a:ln w="36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527280" y="5717160"/>
              <a:ext cx="244800" cy="1404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72080" y="5717520"/>
              <a:ext cx="244800" cy="18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16880" y="5717520"/>
              <a:ext cx="232920" cy="18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249800" y="5703480"/>
              <a:ext cx="244800" cy="1368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494960" y="5689800"/>
              <a:ext cx="246240" cy="1368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1200" y="5689800"/>
              <a:ext cx="244800" cy="144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6360" y="5689800"/>
              <a:ext cx="244800" cy="144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31160" y="5675040"/>
              <a:ext cx="232920" cy="1404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64080" y="5675400"/>
              <a:ext cx="244800" cy="18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709240" y="5455080"/>
              <a:ext cx="246600" cy="22032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955840" y="5289120"/>
              <a:ext cx="244800" cy="16524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201000" y="5121360"/>
              <a:ext cx="244800" cy="1674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445800" y="4276800"/>
              <a:ext cx="246240" cy="8442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692400" y="3585960"/>
              <a:ext cx="231120" cy="69120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923520" y="2921400"/>
              <a:ext cx="246240" cy="66456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170120" y="2228040"/>
              <a:ext cx="244800" cy="693360"/>
            </a:xfrm>
            <a:prstGeom prst="line">
              <a:avLst/>
            </a:prstGeom>
            <a:ln w="36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4960" y="5731920"/>
              <a:ext cx="2462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41200" y="5717160"/>
              <a:ext cx="244800" cy="14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986360" y="5703480"/>
              <a:ext cx="244800" cy="13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231160" y="5689800"/>
              <a:ext cx="232920" cy="13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464080" y="5580000"/>
              <a:ext cx="244800" cy="109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709240" y="5454720"/>
              <a:ext cx="246600" cy="124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955840" y="5218560"/>
              <a:ext cx="244800" cy="236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01000" y="5218560"/>
              <a:ext cx="244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445800" y="4610160"/>
              <a:ext cx="246240" cy="608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92400" y="4179960"/>
              <a:ext cx="231120" cy="430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923520" y="3211560"/>
              <a:ext cx="246240" cy="968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170120" y="2214000"/>
              <a:ext cx="238320" cy="997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41200" y="5731920"/>
              <a:ext cx="244800" cy="144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986360" y="5717160"/>
              <a:ext cx="244800" cy="1404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231160" y="5703480"/>
              <a:ext cx="232920" cy="1368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64080" y="5689800"/>
              <a:ext cx="244800" cy="1368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709240" y="5675040"/>
              <a:ext cx="246600" cy="1404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955840" y="5662800"/>
              <a:ext cx="244800" cy="1188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201000" y="5634720"/>
              <a:ext cx="244800" cy="2808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445800" y="5606640"/>
              <a:ext cx="246240" cy="2772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692400" y="5580000"/>
              <a:ext cx="231120" cy="2664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923520" y="5523840"/>
              <a:ext cx="246240" cy="5616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170120" y="5483160"/>
              <a:ext cx="244800" cy="4032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14920" y="5385960"/>
              <a:ext cx="244800" cy="96840"/>
            </a:xfrm>
            <a:prstGeom prst="line">
              <a:avLst/>
            </a:prstGeom>
            <a:ln w="36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955840" y="5717160"/>
              <a:ext cx="244800" cy="1404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201000" y="5703480"/>
              <a:ext cx="244800" cy="1368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445800" y="5675400"/>
              <a:ext cx="246240" cy="2808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692400" y="5634720"/>
              <a:ext cx="231120" cy="4032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923520" y="5483160"/>
              <a:ext cx="246240" cy="15120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170120" y="5080680"/>
              <a:ext cx="244800" cy="40212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14920" y="4721760"/>
              <a:ext cx="244800" cy="35928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660080" y="4277160"/>
              <a:ext cx="244800" cy="444240"/>
            </a:xfrm>
            <a:prstGeom prst="line">
              <a:avLst/>
            </a:prstGeom>
            <a:ln w="36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3520" y="5731920"/>
              <a:ext cx="246240" cy="1440"/>
            </a:xfrm>
            <a:prstGeom prst="line">
              <a:avLst/>
            </a:prstGeom>
            <a:ln w="36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0120" y="5731920"/>
              <a:ext cx="244800" cy="1440"/>
            </a:xfrm>
            <a:prstGeom prst="line">
              <a:avLst/>
            </a:prstGeom>
            <a:ln w="36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14920" y="5731920"/>
              <a:ext cx="244800" cy="1440"/>
            </a:xfrm>
            <a:prstGeom prst="line">
              <a:avLst/>
            </a:prstGeom>
            <a:ln w="36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660080" y="5703480"/>
              <a:ext cx="244800" cy="28080"/>
            </a:xfrm>
            <a:prstGeom prst="line">
              <a:avLst/>
            </a:prstGeom>
            <a:ln w="36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04880" y="5675400"/>
              <a:ext cx="246600" cy="28080"/>
            </a:xfrm>
            <a:prstGeom prst="line">
              <a:avLst/>
            </a:prstGeom>
            <a:ln w="36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331280" y="5717160"/>
              <a:ext cx="244800" cy="1404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576440" y="5675040"/>
              <a:ext cx="244800" cy="421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821240" y="5648400"/>
              <a:ext cx="246240" cy="262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67480" y="5620680"/>
              <a:ext cx="244800" cy="277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312640" y="5579640"/>
              <a:ext cx="244800" cy="406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557440" y="5551920"/>
              <a:ext cx="232920" cy="277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90360" y="5495760"/>
              <a:ext cx="244800" cy="5616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035520" y="5469120"/>
              <a:ext cx="246600" cy="262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282120" y="5426640"/>
              <a:ext cx="244800" cy="421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527280" y="5385960"/>
              <a:ext cx="244800" cy="406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772080" y="5357880"/>
              <a:ext cx="244800" cy="277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016880" y="5329800"/>
              <a:ext cx="232920" cy="280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249800" y="5301360"/>
              <a:ext cx="244800" cy="277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494960" y="5275080"/>
              <a:ext cx="246240" cy="2664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741200" y="5232960"/>
              <a:ext cx="244800" cy="4176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986360" y="5178240"/>
              <a:ext cx="244800" cy="547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231160" y="5121720"/>
              <a:ext cx="232920" cy="5616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64080" y="5109480"/>
              <a:ext cx="244800" cy="1224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709240" y="5052960"/>
              <a:ext cx="246600" cy="5616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955840" y="4983840"/>
              <a:ext cx="244800" cy="6876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201000" y="4872960"/>
              <a:ext cx="244800" cy="1108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6445800" y="4776480"/>
              <a:ext cx="246240" cy="9648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692400" y="4624560"/>
              <a:ext cx="231120" cy="15192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923520" y="4470840"/>
              <a:ext cx="246240" cy="15300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170120" y="4222440"/>
              <a:ext cx="244800" cy="24840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414920" y="3973680"/>
              <a:ext cx="244800" cy="24840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660080" y="3723120"/>
              <a:ext cx="244800" cy="250200"/>
            </a:xfrm>
            <a:prstGeom prst="line">
              <a:avLst/>
            </a:prstGeom>
            <a:ln w="36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55960" y="5925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7720" y="5925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37680" y="5925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15760" y="5925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10788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0000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7772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660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5872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3680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2640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1780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9552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87640" y="59259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44560" y="1549440"/>
            <a:ext cx="66531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95320" y="1673280"/>
            <a:ext cx="349560" cy="3240"/>
          </a:xfrm>
          <a:prstGeom prst="line">
            <a:avLst/>
          </a:prstGeom>
          <a:ln w="36360">
            <a:solidFill>
              <a:srgbClr val="ff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7880" y="159084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mbda pr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44680" y="1673280"/>
            <a:ext cx="349560" cy="3240"/>
          </a:xfrm>
          <a:prstGeom prst="line">
            <a:avLst/>
          </a:prstGeom>
          <a:ln w="36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4000" y="15908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57880" y="1673280"/>
            <a:ext cx="349200" cy="3240"/>
          </a:xfrm>
          <a:prstGeom prst="line">
            <a:avLst/>
          </a:prstGeom>
          <a:ln w="36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54600" y="159084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ir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88080" y="1673280"/>
            <a:ext cx="349200" cy="3240"/>
          </a:xfrm>
          <a:prstGeom prst="line">
            <a:avLst/>
          </a:prstGeom>
          <a:ln w="36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5800" y="159084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18280" y="1673280"/>
            <a:ext cx="349200" cy="3240"/>
          </a:xfrm>
          <a:prstGeom prst="line">
            <a:avLst/>
          </a:prstGeom>
          <a:ln w="36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18960" y="15908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95320" y="1936800"/>
            <a:ext cx="34956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32000" y="18543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l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44680" y="1936800"/>
            <a:ext cx="349560" cy="1440"/>
          </a:xfrm>
          <a:prstGeom prst="line">
            <a:avLst/>
          </a:prstGeom>
          <a:ln w="36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42840" y="1854360"/>
            <a:ext cx="44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57880" y="1936800"/>
            <a:ext cx="349200" cy="1440"/>
          </a:xfrm>
          <a:prstGeom prst="line">
            <a:avLst/>
          </a:prstGeom>
          <a:ln w="36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64320" y="1854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88080" y="1936800"/>
            <a:ext cx="349200" cy="1440"/>
          </a:xfrm>
          <a:prstGeom prst="line">
            <a:avLst/>
          </a:prstGeom>
          <a:ln w="36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92720" y="18543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18280" y="1936800"/>
            <a:ext cx="349200" cy="1440"/>
          </a:xfrm>
          <a:prstGeom prst="line">
            <a:avLst/>
          </a:prstGeom>
          <a:ln w="36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0240" y="185436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mat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280" y="1735200"/>
            <a:ext cx="639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74600" y="1749600"/>
            <a:ext cx="422280" cy="35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40560" y="1270080"/>
            <a:ext cx="4492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10512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entury Schoolbook"/>
              </a:rPr>
              <a:t>Installation rate in % (WEU)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5840" y="5884920"/>
            <a:ext cx="776160" cy="380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31120" y="6635880"/>
            <a:ext cx="23540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900" spc="-1" strike="noStrike">
                <a:solidFill>
                  <a:srgbClr val="747474"/>
                </a:solidFill>
                <a:latin typeface="Arial"/>
              </a:rPr>
              <a:t>F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56600" rIns="0" tIns="10512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entury Schoolbook"/>
              </a:rPr>
              <a:t>Evolution of vehicle </a:t>
            </a:r>
            <a:br>
              <a:rPr sz="3600"/>
            </a:br>
            <a:r>
              <a:rPr b="1" i="1" lang="de-DE" sz="3600" spc="-1" strike="noStrike">
                <a:solidFill>
                  <a:srgbClr val="000000"/>
                </a:solidFill>
                <a:latin typeface="Century Schoolbook"/>
              </a:rPr>
              <a:t>production cost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24" name=""/>
          <p:cNvSpPr/>
          <p:nvPr/>
        </p:nvSpPr>
        <p:spPr>
          <a:xfrm>
            <a:off x="476280" y="2782800"/>
            <a:ext cx="704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3489480"/>
            <a:ext cx="704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280" y="4203720"/>
            <a:ext cx="704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6280" y="4915080"/>
            <a:ext cx="704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060880"/>
            <a:ext cx="7936200" cy="180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359240"/>
            <a:ext cx="7936200" cy="180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646440"/>
            <a:ext cx="7936200" cy="180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2941560"/>
            <a:ext cx="7956720" cy="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717640"/>
            <a:ext cx="2657520" cy="654120"/>
          </a:xfrm>
          <a:custGeom>
            <a:avLst/>
            <a:gdLst/>
            <a:ahLst/>
            <a:rect l="l" t="t" r="r" b="b"/>
            <a:pathLst>
              <a:path w="1630" h="402">
                <a:moveTo>
                  <a:pt x="2" y="138"/>
                </a:moveTo>
                <a:lnTo>
                  <a:pt x="0" y="138"/>
                </a:lnTo>
                <a:lnTo>
                  <a:pt x="1630" y="402"/>
                </a:lnTo>
                <a:lnTo>
                  <a:pt x="1630" y="0"/>
                </a:lnTo>
                <a:lnTo>
                  <a:pt x="2" y="138"/>
                </a:lnTo>
                <a:close/>
              </a:path>
            </a:pathLst>
          </a:custGeom>
          <a:solidFill>
            <a:srgbClr val="95b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7360" y="2941560"/>
            <a:ext cx="2647800" cy="2822760"/>
          </a:xfrm>
          <a:custGeom>
            <a:avLst/>
            <a:gdLst/>
            <a:ahLst/>
            <a:rect l="l" t="t" r="r" b="b"/>
            <a:pathLst>
              <a:path w="1624" h="1730">
                <a:moveTo>
                  <a:pt x="0" y="0"/>
                </a:moveTo>
                <a:lnTo>
                  <a:pt x="0" y="1730"/>
                </a:lnTo>
                <a:lnTo>
                  <a:pt x="1624" y="1730"/>
                </a:lnTo>
                <a:lnTo>
                  <a:pt x="1624" y="264"/>
                </a:lnTo>
                <a:lnTo>
                  <a:pt x="0" y="0"/>
                </a:lnTo>
                <a:close/>
              </a:path>
            </a:pathLst>
          </a:custGeom>
          <a:solidFill>
            <a:srgbClr val="bb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0040" y="2941560"/>
            <a:ext cx="1327320" cy="2826000"/>
          </a:xfrm>
          <a:prstGeom prst="rect">
            <a:avLst/>
          </a:prstGeom>
          <a:solidFill>
            <a:srgbClr val="7d9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41920" y="3370320"/>
            <a:ext cx="1314720" cy="2395440"/>
          </a:xfrm>
          <a:prstGeom prst="rect">
            <a:avLst/>
          </a:prstGeom>
          <a:solidFill>
            <a:srgbClr val="7d9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0480" y="2716200"/>
            <a:ext cx="1314360" cy="655560"/>
          </a:xfrm>
          <a:prstGeom prst="rect">
            <a:avLst/>
          </a:prstGeom>
          <a:solidFill>
            <a:srgbClr val="186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765760"/>
            <a:ext cx="7936200" cy="180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7400" y="5654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83680" y="58546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91200" y="58546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9160" y="2286000"/>
            <a:ext cx="319248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i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lation to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9440" y="1660680"/>
            <a:ext cx="1990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per vehic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 euros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87280" y="2238480"/>
            <a:ext cx="7942320" cy="144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187280" y="1628640"/>
            <a:ext cx="7942320" cy="1800"/>
          </a:xfrm>
          <a:prstGeom prst="line">
            <a:avLst/>
          </a:prstGeom>
          <a:ln w="9360">
            <a:solidFill>
              <a:srgbClr val="9e9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31040" y="1636560"/>
            <a:ext cx="14335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8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78240" y="1636560"/>
            <a:ext cx="14302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2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0040" y="2575080"/>
            <a:ext cx="227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nov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0120" y="3459240"/>
            <a:ext cx="2257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rrently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6280" y="2513160"/>
            <a:ext cx="704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55240" y="6076800"/>
            <a:ext cx="3529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*Source: Mercer Consulting , Fraunhofer Gesell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452520"/>
            <a:ext cx="83059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47560" y="0"/>
            <a:ext cx="5877000" cy="663480"/>
          </a:xfrm>
          <a:prstGeom prst="rect">
            <a:avLst/>
          </a:prstGeom>
          <a:solidFill>
            <a:srgbClr val="0a3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600" rIns="0" tIns="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oCS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228600" y="5884920"/>
            <a:ext cx="77616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16680" y="6635880"/>
            <a:ext cx="23540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900" spc="-1" strike="noStrike">
                <a:solidFill>
                  <a:srgbClr val="747474"/>
                </a:solidFill>
                <a:latin typeface="Arial"/>
              </a:rPr>
              <a:t>F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7560" y="677880"/>
            <a:ext cx="5877000" cy="558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bf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912" t="0" r="69884" b="0"/>
          <a:stretch/>
        </p:blipFill>
        <p:spPr>
          <a:xfrm>
            <a:off x="6424560" y="677880"/>
            <a:ext cx="2205000" cy="5587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246800" y="2954160"/>
            <a:ext cx="11858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2760" y="3463920"/>
            <a:ext cx="1239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2760" y="4260960"/>
            <a:ext cx="12682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2760" y="5284800"/>
            <a:ext cx="1887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09000" y="2990880"/>
            <a:ext cx="45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80240" y="2990880"/>
            <a:ext cx="63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2800" spc="-1" strike="noStrike">
                <a:solidFill>
                  <a:srgbClr val="e80000"/>
                </a:solidFill>
                <a:latin typeface="Arial"/>
              </a:rPr>
              <a:t>Q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4320" y="349236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e8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03960" y="369396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s our 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02880" y="3895560"/>
            <a:ext cx="107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lued 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04320" y="4287960"/>
            <a:ext cx="90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e80000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03240" y="4489560"/>
            <a:ext cx="126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day-ens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02880" y="469260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tomor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2520" y="5313240"/>
            <a:ext cx="183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e80000"/>
                </a:solidFill>
                <a:latin typeface="Arial"/>
              </a:rPr>
              <a:t>Customer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01440" y="5514840"/>
            <a:ext cx="168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spires custom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02520" y="5716440"/>
            <a:ext cx="127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560" y="1440000"/>
            <a:ext cx="8245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600" rIns="0" tIns="1051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2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de-DE" sz="4500" spc="-1" strike="noStrike">
                <a:solidFill>
                  <a:srgbClr val="545454"/>
                </a:solidFill>
                <a:latin typeface="Century Schoolbook"/>
              </a:rPr>
              <a:t>Quality is, first of all,</a:t>
            </a:r>
            <a:br>
              <a:rPr sz="4500"/>
            </a:br>
            <a:br>
              <a:rPr sz="4500"/>
            </a:br>
            <a:r>
              <a:rPr b="1" i="1" lang="de-DE" sz="4500" spc="-1" strike="noStrike">
                <a:solidFill>
                  <a:srgbClr val="545454"/>
                </a:solidFill>
                <a:latin typeface="Century Schoolbook"/>
              </a:rPr>
              <a:t>• mindset,</a:t>
            </a:r>
            <a:br>
              <a:rPr sz="4500"/>
            </a:br>
            <a:r>
              <a:rPr b="1" i="1" lang="de-DE" sz="4500" spc="-1" strike="noStrike">
                <a:solidFill>
                  <a:srgbClr val="545454"/>
                </a:solidFill>
                <a:latin typeface="Century Schoolbook"/>
              </a:rPr>
              <a:t>• determination, </a:t>
            </a:r>
            <a:br>
              <a:rPr sz="4500"/>
            </a:br>
            <a:r>
              <a:rPr b="1" i="1" lang="de-DE" sz="4500" spc="-1" strike="noStrike">
                <a:solidFill>
                  <a:srgbClr val="545454"/>
                </a:solidFill>
                <a:latin typeface="Century Schoolbook"/>
              </a:rPr>
              <a:t>• leadership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5840" y="5884920"/>
            <a:ext cx="77616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531120" y="6635880"/>
            <a:ext cx="23540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900" spc="-1" strike="noStrike">
                <a:solidFill>
                  <a:srgbClr val="747474"/>
                </a:solidFill>
                <a:latin typeface="Arial"/>
              </a:rPr>
              <a:t>F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98760" y="3471840"/>
            <a:ext cx="7617600" cy="941400"/>
            <a:chOff x="1598760" y="3471840"/>
            <a:chExt cx="7617600" cy="941400"/>
          </a:xfrm>
        </p:grpSpPr>
        <p:sp>
          <p:nvSpPr>
            <p:cNvPr id="176" name=""/>
            <p:cNvSpPr/>
            <p:nvPr/>
          </p:nvSpPr>
          <p:spPr>
            <a:xfrm>
              <a:off x="1598760" y="3471840"/>
              <a:ext cx="7237800" cy="0"/>
            </a:xfrm>
            <a:prstGeom prst="line">
              <a:avLst/>
            </a:prstGeom>
            <a:ln w="28440">
              <a:solidFill>
                <a:srgbClr val="588c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03480" y="3641040"/>
              <a:ext cx="171288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arget: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Zero failu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2292480" y="2223720"/>
            <a:ext cx="5202000" cy="337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03040" y="1668600"/>
            <a:ext cx="3716280" cy="4063680"/>
            <a:chOff x="203040" y="1668600"/>
            <a:chExt cx="3716280" cy="4063680"/>
          </a:xfrm>
        </p:grpSpPr>
        <p:sp>
          <p:nvSpPr>
            <p:cNvPr id="180" name=""/>
            <p:cNvSpPr/>
            <p:nvPr/>
          </p:nvSpPr>
          <p:spPr>
            <a:xfrm flipV="1">
              <a:off x="3919320" y="1668600"/>
              <a:ext cx="0" cy="4063680"/>
            </a:xfrm>
            <a:prstGeom prst="line">
              <a:avLst/>
            </a:prstGeom>
            <a:ln w="28440">
              <a:solidFill>
                <a:srgbClr val="588c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03040" y="1721160"/>
              <a:ext cx="3553920" cy="3457080"/>
              <a:chOff x="203040" y="1721160"/>
              <a:chExt cx="3553920" cy="345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203040" y="3858840"/>
                <a:ext cx="2617920" cy="131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ftware viewed as </a:t>
                </a:r>
                <a:br>
                  <a:rPr sz="2000"/>
                </a:b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 Factor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naging risk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voiding bug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4240" y="1721160"/>
                <a:ext cx="3492720" cy="101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ftware viewed as </a:t>
                </a:r>
                <a:br>
                  <a:rPr sz="2000"/>
                </a:b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usiness Opportun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mproving competitiven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139920" y="2379600"/>
            <a:ext cx="5652720" cy="2963520"/>
            <a:chOff x="3139920" y="2379600"/>
            <a:chExt cx="5652720" cy="2963520"/>
          </a:xfrm>
        </p:grpSpPr>
        <p:sp>
          <p:nvSpPr>
            <p:cNvPr id="185" name=""/>
            <p:cNvSpPr/>
            <p:nvPr/>
          </p:nvSpPr>
          <p:spPr>
            <a:xfrm>
              <a:off x="3139920" y="4496760"/>
              <a:ext cx="2713320" cy="8463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ftware as 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ecess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1640" y="3438000"/>
              <a:ext cx="2713320" cy="8467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ftware as 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tal compon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79320" y="2379600"/>
              <a:ext cx="2713320" cy="8467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ftware as 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fferentiat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625840" y="677880"/>
            <a:ext cx="4371480" cy="5598000"/>
            <a:chOff x="2625840" y="677880"/>
            <a:chExt cx="4371480" cy="5598000"/>
          </a:xfrm>
        </p:grpSpPr>
        <p:sp>
          <p:nvSpPr>
            <p:cNvPr id="189" name=""/>
            <p:cNvSpPr/>
            <p:nvPr/>
          </p:nvSpPr>
          <p:spPr>
            <a:xfrm>
              <a:off x="2627280" y="5503680"/>
              <a:ext cx="4370040" cy="772200"/>
            </a:xfrm>
            <a:prstGeom prst="rect">
              <a:avLst/>
            </a:prstGeom>
            <a:solidFill>
              <a:srgbClr val="005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Software Qualit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5840" y="677880"/>
              <a:ext cx="4371480" cy="7722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Quality Softwa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606800" y="6180120"/>
            <a:ext cx="118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ource: FV/SL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The discipline of market leader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076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 of 80 high-performing fi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to success: </a:t>
            </a:r>
            <a:r>
              <a:rPr b="1" lang="en-US" sz="2400" spc="-1" strike="noStrike">
                <a:solidFill>
                  <a:srgbClr val="dd0806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&amp; only one of three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perational excellenc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ook Antiqua"/>
              </a:rPr>
              <a:t>Product innovativenes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ook Antiqua"/>
              </a:rPr>
              <a:t>Customer intimacy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perform to a threshold level in other tw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249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5:25:09Z</dcterms:created>
  <dc:creator>Stan Rifkin</dc:creator>
  <dc:description/>
  <dc:language>en-US</dc:language>
  <cp:lastModifiedBy>Stan Rifkin</cp:lastModifiedBy>
  <dcterms:modified xsi:type="dcterms:W3CDTF">2004-11-19T14:50:17Z</dcterms:modified>
  <cp:revision>47</cp:revision>
  <dc:subject/>
  <dc:title>Combining operational excellence and product innovativeness</dc:title>
</cp:coreProperties>
</file>